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D780-9817-4EDB-8DD5-5F89B6F5C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A1FD-9912-442F-8627-CFA731942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32B6-709F-4B4A-B31B-DD780996B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DD38-08C1-4C03-B40F-F4BAB62327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78CD-885C-471F-A141-DFB251FAE0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637F-3F07-42BC-B00A-2904BD3A3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F5B3-E0A6-4742-8B07-50E7F5D0A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ECDD-391F-49CA-9F91-CF12A4194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F32D-4854-47CF-88FF-5F70C5A45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0F96-D549-449F-B7F9-7163D18C8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39B3-BFAE-48AE-A274-EF1C6AC94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6779-EA1F-46FD-A950-A5F9E3937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A603-AEB4-4467-AFC3-507DCDFCC4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video" Target="/Users/tylerdaughtry/Documents/Middle Ages Final/CRUSADES .ppt_media/cheer-2.mov" TargetMode="External"/><Relationship Id="rId4" Type="http://schemas.microsoft.com/office/2007/relationships/media" Target="/Users/tylerdaughtry/Documents/Middle Ages Final/CRUSADES .ppt_media/cheer-2.mov" TargetMode="External"/><Relationship Id="rId5" Type="http://schemas.openxmlformats.org/officeDocument/2006/relationships/image" Target="../media/image3.png"/><Relationship Id="rId6" Type="http://schemas.openxmlformats.org/officeDocument/2006/relationships/video" Target="/Users/tylerdaughtry/Documents/Middle Ages Final/CRUSADES .ppt_media/combined-2.mov" TargetMode="External"/><Relationship Id="rId7" Type="http://schemas.microsoft.com/office/2007/relationships/media" Target="/Users/tylerdaughtry/Documents/Middle Ages Final/CRUSADES .ppt_media/combined-2.mov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video" Target="/Users/tylerdaughtry/Documents/Middle Ages Final/CRUSADES .ppt_media/lion-2.mov" TargetMode="External"/><Relationship Id="rId4" Type="http://schemas.microsoft.com/office/2007/relationships/media" Target="/Users/tylerdaughtry/Documents/Middle Ages Final/CRUSADES .ppt_media/lion-2.mo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The First Crusade (1096-109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Peasant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Un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Lacked military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Many killed by Muslim Tu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Kn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Succeeded in capturing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730680" cy="4114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229600" y="60958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61048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Second Crusade (1147-11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After victory many Christians went back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he Turks eventually took back much of the terri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King of France and Emperor of Germany sent troops to stop the Tu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10800000">
            <a:off x="5765400" y="5003280"/>
            <a:ext cx="2590920" cy="1971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62120" y="5867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econd Crusade (1147-11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01360"/>
            <a:ext cx="3962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Saladin leads the Muslim Turks to victory, defeating the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Wise R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Kind treatment of fallen enem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Model of </a:t>
            </a:r>
            <a:r>
              <a:rPr b="0" lang="en-US" sz="2000" spc="-1" strike="noStrike" u="sng">
                <a:solidFill>
                  <a:srgbClr val="ff2712"/>
                </a:solidFill>
                <a:uFillTx/>
                <a:latin typeface="Lucida Grande"/>
                <a:ea typeface="Lucida Grande"/>
              </a:rPr>
              <a:t>chival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3860640" cy="4876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2120" y="5943600"/>
            <a:ext cx="244440" cy="2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Third Crusade (1189-119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1638360" y="1155600"/>
            <a:ext cx="10744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3" marL="1589040" indent="-457200">
              <a:lnSpc>
                <a:spcPct val="100000"/>
              </a:lnSpc>
              <a:spcBef>
                <a:spcPts val="799"/>
              </a:spcBef>
              <a:buClr>
                <a:srgbClr val="d90b00"/>
              </a:buClr>
              <a:buFont typeface="Lucida Grand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English King Richard the Lion-Heart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457200">
              <a:lnSpc>
                <a:spcPct val="100000"/>
              </a:lnSpc>
              <a:spcBef>
                <a:spcPts val="799"/>
              </a:spcBef>
              <a:buClr>
                <a:srgbClr val="d90b00"/>
              </a:buClr>
              <a:buFont typeface="Lucida Gran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Fought many battles against </a:t>
            </a:r>
            <a:r>
              <a:rPr b="1" lang="en-US" sz="34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Saladin</a:t>
            </a: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457200">
              <a:lnSpc>
                <a:spcPct val="100000"/>
              </a:lnSpc>
              <a:spcBef>
                <a:spcPts val="799"/>
              </a:spcBef>
              <a:buClr>
                <a:srgbClr val="d90b00"/>
              </a:buClr>
              <a:buFont typeface="Lucida Gran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Agreed to a </a:t>
            </a:r>
            <a:r>
              <a:rPr b="1" lang="en-US" sz="34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truce</a:t>
            </a: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with Saladin in 119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457200">
              <a:lnSpc>
                <a:spcPct val="100000"/>
              </a:lnSpc>
              <a:spcBef>
                <a:spcPts val="799"/>
              </a:spcBef>
              <a:buClr>
                <a:srgbClr val="d90b00"/>
              </a:buClr>
              <a:buFont typeface="Lucida Grande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Jerusalem stayed under Muslim </a:t>
            </a:r>
            <a:r>
              <a:rPr b="1" lang="en-US" sz="34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457200">
              <a:lnSpc>
                <a:spcPct val="100000"/>
              </a:lnSpc>
              <a:spcBef>
                <a:spcPts val="799"/>
              </a:spcBef>
              <a:buClr>
                <a:srgbClr val="d90b00"/>
              </a:buClr>
              <a:buFont typeface="Lucida Grande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Saladin promised unarmed Christians could </a:t>
            </a:r>
            <a:r>
              <a:rPr b="1" lang="en-US" sz="30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freely visit</a:t>
            </a:r>
            <a:r>
              <a:rPr b="0" lang="en-US" sz="30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the city’s </a:t>
            </a:r>
            <a:r>
              <a:rPr b="1" lang="en-US" sz="30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holy</a:t>
            </a:r>
            <a:r>
              <a:rPr b="0" lang="en-US" sz="30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pl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I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.</a:t>
            </a:r>
            <a:r>
              <a:rPr b="1" lang="en-US" sz="32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F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. </a:t>
            </a:r>
            <a:r>
              <a:rPr b="1" lang="en-US" sz="32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T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urks </a:t>
            </a:r>
            <a:r>
              <a:rPr b="1" lang="en-US" sz="32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T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raveled</a:t>
            </a: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they would </a:t>
            </a:r>
            <a:r>
              <a:rPr b="1" lang="en-US" sz="32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T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I </a:t>
            </a: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= 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Improvements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–</a:t>
            </a: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Ships, Maps, Expl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F =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Feudalism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declines because Feudal lords die or 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spend too much money on mili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 = Turks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still rule the Holy 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 =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ravel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– Europeans want to travel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 =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rade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– Europeans want product from the East 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such as sugar, cotton, silk, spic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aff</dc:creator>
  <dc:description/>
  <dc:language>en-US</dc:language>
  <cp:lastModifiedBy/>
  <cp:revision>0</cp:revision>
  <dc:subject/>
  <dc:title>THE CRUSADES</dc:title>
</cp:coreProperties>
</file>